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1EB-3E6D-4DC7-941E-3D69F509E3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FDEA-A834-4D40-A5BC-5C9A4054A7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961-540C-418D-8402-609B76B0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017-6B91-4644-B7F7-CB7E6741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7FB-E29F-47E3-8C94-4E2E8D19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5CB-42CA-428D-8004-93473CD7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C355-DE3A-4EAD-BCD5-678DB0A4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76F7-C988-4F91-8B60-01839671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BF47-044E-487C-98F4-2B0D1203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796-63DB-4C08-9E8D-EB27AA8C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E0E-55BA-4E27-B07F-685C6594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2A6B-175A-4FE3-B092-9AAA0F6E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5ECA-2FF9-439D-93AA-1E96FFC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52D-57B6-48E6-91BF-A943594A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BCF0-CFF5-4B3F-860B-1E73413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48AF-635F-41EF-B71A-547C7C50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E9E5-B364-4CB4-B8FE-E55A68DB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1EA3-72A5-45F4-AA97-4786F65C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6E80-130A-405F-A4CE-FC22C244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FA7F-27BE-4588-8B0E-2EF7B887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2FDD-1437-4301-941A-FEEEBA59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4346-5BCD-48A2-AA4D-FA2C384A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668F-6CDE-4648-B6E5-210337E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1C37-D535-4642-9853-489FEF6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1B0-EE8C-4B00-B699-201ED93C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332F-479F-47E4-9502-598DFB5E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C9CA-B4F7-4741-9D5B-CE49608F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E91A-58AA-4578-B276-1210EDE4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F2B8-5F0E-401B-80AC-8574332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B9F0-0F87-4CAF-A0CE-DD6EE40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AFD5-9ABB-4250-8C7A-02AB8293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0BE0-AA99-4C85-9498-57F88731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8466-1CEF-4869-8DE6-E648754D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E851-D6C6-45EA-B3E8-CC550B01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DAB8-4027-441A-989D-844568C8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561-B2B9-4275-96DD-DF385CC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C005-BDB1-4F3C-AF2E-8736A271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C540-A2DD-4699-8F1A-4DC79A42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7B77-BFD5-45B0-A22B-981369D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A996-976B-45C7-8351-055CDDE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D56B-7B74-4256-B810-8E26BD0D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5E11-0979-48E8-9193-B9918E40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C3CF-34CD-4557-8365-273DB2D2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0B71-BF20-4B61-93DF-28F9F052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B88A-A8F3-4516-AA78-ED6EA660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C6B-E60E-4109-BFB4-0C581AF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44A-2831-4CFB-986B-7E1CEED8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D49-93FA-4491-A794-2B83BBFF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0A3-622B-448D-887F-2D812C8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266-5BCA-431B-BBF3-0A39407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FF0E-44FC-4871-B640-446B4EB9BFF5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C37-A0D0-4EAF-BEEE-3B5ADEFA70BC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BDBE-1288-43E2-9397-F336C3EAB300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C73-F0E0-4730-BFA5-C500CBE986C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25560" y="2514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X DETERMINATION AND DIFFERENTI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ve genes on X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934640"/>
            <a:ext cx="6248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s in the pseudoautosomal region at the top of the short arm, as well as other genes on the short and long arms of the X chromosom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more genes remain active on the p arm of the inactive X, deletions of Xp cause more severe phenotypic effects than deletions of Xq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Sex Chromosomes and Abnormalities Sex chromosomes At the"/>
          <p:cNvPicPr/>
          <p:nvPr/>
        </p:nvPicPr>
        <p:blipFill>
          <a:blip r:embed="rId1"/>
          <a:srcRect l="75003" t="23334" r="0" b="0"/>
          <a:stretch/>
        </p:blipFill>
        <p:spPr>
          <a:xfrm>
            <a:off x="6686640" y="1600200"/>
            <a:ext cx="21333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ONIZA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t refers on the phenomenon in which the normal X chromosome is inactivated, while the X that carries the mutation remains active, the so-called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avoided inactivation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of the X chromosome with mut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ifestation of hemophilia in heterozygous wom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X-healthy woman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- carrier;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@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woman with hemophil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ROMOSOME INACTIV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9810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t is regulated by the X inactivation center (XIC) located on the long arm of the X chromosome (Hq13) –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 ge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he XIST gene is transcribed into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XIST-RN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XIST-RNA accumulates along the X chromosome and blocks it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t is not transmitted to another X in the nucleus. </a:t>
            </a:r>
            <a:br>
              <a:rPr sz="2200"/>
            </a:b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taneous silencing of the XIST locus on the active X chromosome is accomplished by methylation of the XIST regulatory sequence.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DNA methylation blocks expression of the XIST gene locu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6730920" y="2743200"/>
          <a:ext cx="2260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0920" y="2743200"/>
                    <a:ext cx="2260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DER (SEX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Gen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x (chromosomal constitution of the zygot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Gonad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x (determined by the presence of gona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henotyp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x (external manifestation of gend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uman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ове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homogametou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all eggs contain only the X chromoso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 sex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heterogametou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spermatozoa: those containing the X and those containing the Y chromoso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ex determin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t the moment of fertiliz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Formation of bipotential gonad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wo sets of separate ducts (Wolff's and Müller's) and undifferentiated external genital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ifferentiation of gonads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bipotential gonad differentiates into a testis (in males, due to the effect of the SRY gene product – TDF) or into an ovary (in females, in the absence of the SRY gene product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ifferentiation of internal genital ducts and external genital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X DETERMINATION IN HUMAN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ST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üllerian inhibiting substance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TESTOSTERON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Leydig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ll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tol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ll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regression of the Mullerian ducts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fian du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(epididymis, vas deferens, seminal vesicle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V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k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I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lack of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osteron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 Mullerian ducts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inhibits development o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lffian duct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allopian tubes, uterus, part of the vagina)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of female genital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1981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2819160" y="6858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6324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5029200" y="685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2057040" y="38862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5638680" y="3886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63244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-360" y="12952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 meiosis, the X and Y chromosomes behave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like homologou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utosomes, they synapse in prophase, and separate in anaphas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On the terminal parts of the X and Y chromosomes, there are small regions that synapse and recombine, called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pseudoautosomal region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PAR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seudoautosomal regions are named according to genes located in these regions, and the inheritance they determine is similar to autosomal ge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y_140"/>
          <p:cNvPicPr/>
          <p:nvPr/>
        </p:nvPicPr>
        <p:blipFill>
          <a:blip r:embed="rId1"/>
          <a:stretch/>
        </p:blipFill>
        <p:spPr>
          <a:xfrm>
            <a:off x="0" y="0"/>
            <a:ext cx="1486080" cy="12938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828800" y="228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Ychromosome2"/>
          <p:cNvPicPr/>
          <p:nvPr/>
        </p:nvPicPr>
        <p:blipFill>
          <a:blip r:embed="rId2"/>
          <a:stretch/>
        </p:blipFill>
        <p:spPr>
          <a:xfrm>
            <a:off x="7086600" y="4038480"/>
            <a:ext cx="1662120" cy="26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Object 6"/>
          <p:cNvGraphicFramePr/>
          <p:nvPr/>
        </p:nvGraphicFramePr>
        <p:xfrm>
          <a:off x="7238880" y="990720"/>
          <a:ext cx="124308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990720"/>
                    <a:ext cx="12430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8"/>
          <p:cNvSpPr/>
          <p:nvPr/>
        </p:nvSpPr>
        <p:spPr>
          <a:xfrm>
            <a:off x="8001000" y="1752480"/>
            <a:ext cx="53352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8007480" y="2286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7925040" y="11430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7925040" y="3657600"/>
            <a:ext cx="4885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7253640" y="6324480"/>
            <a:ext cx="168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 chromoso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7234560" y="817560"/>
            <a:ext cx="16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Х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Ychromosome2"/>
          <p:cNvPicPr/>
          <p:nvPr/>
        </p:nvPicPr>
        <p:blipFill>
          <a:blip r:embed="rId1"/>
          <a:stretch/>
        </p:blipFill>
        <p:spPr>
          <a:xfrm>
            <a:off x="63360" y="1689120"/>
            <a:ext cx="3111480" cy="5016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123720" y="182880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95% of the genes on the Y chromosome are located in pseudoautosomal regio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ales have two copies of the pseudoautosomal region gene. One copy on the Y chromosome and the other on the X chromosom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here are 78 genes on the Y chromosome that determine the production of proteins necessary for all body cells, and others determine proteins that perform functions only in the testi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335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mosom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s s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Ychromosome2"/>
          <p:cNvPicPr/>
          <p:nvPr/>
        </p:nvPicPr>
        <p:blipFill>
          <a:blip r:embed="rId1"/>
          <a:stretch/>
        </p:blipFill>
        <p:spPr>
          <a:xfrm>
            <a:off x="291960" y="1270080"/>
            <a:ext cx="2781360" cy="4851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428640" y="2666880"/>
            <a:ext cx="5715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of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ople with sex revers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-men who have teste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Y- women who do not have tes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819520" y="1270080"/>
            <a:ext cx="5715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548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p arm of the Y chromosome in region 11.3, there is the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RY ge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ex-determining region on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82548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RY gene participates in the differentiation of the test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480" y="91440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DER - DIFFERENTIATION OF INDIVIDUALS INTO MALE AND FEMALE INDIVIDUAL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ex determin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Progamic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 can be predic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fore fertiliz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egg size (worms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otato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Epigamic type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 determination is perform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fertiliz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depends on the environmental condi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yngamic type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 sexual reproduction by union of gametes, resulting in the formation of a zygote. Determination of sex is perform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moment of fertiliz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t occurs in humans and domestic animals and is the most widespread type of sex determin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Y gen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REGION ON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300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Crucial for testes differentiation</a:t>
            </a:r>
            <a:br>
              <a:rPr sz="2200"/>
            </a:b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35.000 bp on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rm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e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encodes polypeptide (223 аmino acids) transriptional factor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ТDF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(testis-determining factor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its presence or absence determines whether the bipotential gonads will form a testis or an ovary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5" descr="Sex Development | BioNinja"/>
          <p:cNvPicPr/>
          <p:nvPr/>
        </p:nvPicPr>
        <p:blipFill>
          <a:blip r:embed="rId1"/>
          <a:stretch/>
        </p:blipFill>
        <p:spPr>
          <a:xfrm>
            <a:off x="2333520" y="4471920"/>
            <a:ext cx="4476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spermatogen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-Yc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ntige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rowt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theeth growt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masculinis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6212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s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 chromosom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04920" y="2742840"/>
            <a:ext cx="77724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SS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odes a nuclear hormone recept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double dose of DSS always caused ovarian differenti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double dose on active X suppresses the effect of the SRY ge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SS+S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DSS  or  2DSS+SRY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TEST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0492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romos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7846920" y="1781280"/>
          <a:ext cx="124164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6920" y="1781280"/>
                    <a:ext cx="12416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5"/>
          <p:cNvSpPr/>
          <p:nvPr/>
        </p:nvSpPr>
        <p:spPr>
          <a:xfrm>
            <a:off x="8081280" y="2895480"/>
            <a:ext cx="4140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8083800" y="3429000"/>
            <a:ext cx="377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I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7451640" y="71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7490520" y="5127480"/>
            <a:ext cx="18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57200" y="16002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The most significant regions that play a role in ovarian differentiation are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q13-XIC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Xp21- DS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responsible for sex differentia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286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WT1 gene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on chromosome 11p13 (involved in formation of Wilms' tumor, during embryogenesis expressed in genital fold, while at the fetal stage expressed in the gonads of both sexes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lays crucial role in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ovary differenti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F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ated on chromosom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9q33 (regulates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production of reproductive hormone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located on17q24-25 (regulates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testis differentiatio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 there are 14 SOX gen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6172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09480" y="533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OSOMES ALSO PLAY A ROLE IN SEX DIFFERENTI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763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sr-RS" sz="2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sr-Latn-CS" sz="2200" spc="-1" strike="noStrike" u="sng">
                <a:solidFill>
                  <a:srgbClr val="c00000"/>
                </a:solidFill>
                <a:uFillTx/>
                <a:latin typeface="Arial"/>
              </a:rPr>
              <a:t>XX- male phenotyp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On the short arm of the X chromosome inherited from the father, there is a sequence of the Y chromosome that contains the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SRY gen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over 80%), which is a consequence of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irregular crossing over between X and Y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n 15-20%, the SRY sequence was not determined, and it is considered to be the result of a mutation on autosome 22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idenc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 000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wbor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ort statur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have tes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use may be translocation between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X and 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676520" y="4446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UMAN SEX REVERSAL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5" descr="Wk 8 Sexual Differentiation Flashcards | Quizlet"/>
          <p:cNvPicPr/>
          <p:nvPr/>
        </p:nvPicPr>
        <p:blipFill>
          <a:blip r:embed="rId1"/>
          <a:srcRect l="75797" t="0" r="0" b="0"/>
          <a:stretch/>
        </p:blipFill>
        <p:spPr>
          <a:xfrm>
            <a:off x="8077320" y="1143000"/>
            <a:ext cx="876240" cy="197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Genetic Syndromes Part 1 and 2 Dr Tabrez"/>
          <p:cNvPicPr/>
          <p:nvPr/>
        </p:nvPicPr>
        <p:blipFill>
          <a:blip r:embed="rId2"/>
          <a:srcRect l="11764" t="47718" r="17648" b="0"/>
          <a:stretch/>
        </p:blipFill>
        <p:spPr>
          <a:xfrm>
            <a:off x="6095880" y="4152960"/>
            <a:ext cx="2743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x-y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26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84" name=""/>
          <p:cNvSpPr txBox="1"/>
          <p:nvPr/>
        </p:nvSpPr>
        <p:spPr>
          <a:xfrm>
            <a:off x="3962160" y="1371240"/>
            <a:ext cx="4647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ing 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between pseudoautosomal regions on the X and Y chromo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By irregular </a:t>
            </a:r>
            <a:r>
              <a:rPr b="0" i="1" lang="sr-Latn-CS" sz="2400" spc="-1" strike="noStrike">
                <a:solidFill>
                  <a:srgbClr val="c00000"/>
                </a:solidFill>
                <a:latin typeface="Arial"/>
              </a:rPr>
              <a:t>crossing over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, the SRY gene moves to the X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401840"/>
            <a:ext cx="8229600" cy="49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May occur as a consequence of mosaicism (45,X0/46XY; demonstarted in one cas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n the others, the sequence of the Y chromosome was detected on the autosome, but never on the X. It is the result of a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translocation between the Y and the short sequences of the autosom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f the translocation involves only the SRY gene, the man is infertile, there is no spermatogen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f the translocation involves a longer sequence (SRY and spermatogenesis gene), the male is phenotypically normal and fertil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small number of people have sex revers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5146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3520" y="533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5,ХО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emal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us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R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letion or point mu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x DSS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uplication on 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OX9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le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na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ovary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ital duc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fema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female,  amenorrhea, infertile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ss pronounced secondary sex characteristic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  <a:ea typeface="Arial"/>
              </a:rPr>
              <a:t>PURE GONADAL DYSGENESI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o physical features of Turner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follicle atresia is accelerat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5" descr="Wk 8 Sexual Differentiation Flashcards | Quizlet"/>
          <p:cNvPicPr/>
          <p:nvPr/>
        </p:nvPicPr>
        <p:blipFill>
          <a:blip r:embed="rId1"/>
          <a:srcRect l="44214" t="0" r="24211" b="0"/>
          <a:stretch/>
        </p:blipFill>
        <p:spPr>
          <a:xfrm>
            <a:off x="7213680" y="1066680"/>
            <a:ext cx="1160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HERMAPHRODIT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HERMAPHRODIT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914400" y="5335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MAPHRODIT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SEX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HERMAPHRODITIS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nads: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ary + testis  (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OVOTEST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ital ducts: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xed (uterus ?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External genitalia: ambivalent (indeterminate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y are raised in the male gender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al constitution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 (60%) 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/XY result of chimerism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RR BODY - SEX CHROMATI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though female mammals have two X chromosomes and males only one, there is no difference in the expression of genes linked to the X chromosome – this is known as gene compens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ry Lyon (1961, 1963) – formulated hypothesis about gene dosage compens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Barr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Bertram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1949) – Barr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Barr body is clearly visible in the interphase nuclei of somatic cells of women, it is stained dark and replicates in the late S phas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28600" y="18288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al constitution: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X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Gonad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Genital ducts: /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Phenotyp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amenorea, infertil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no Barr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Cause: MUTATION OF THE GENE FOR THE TESTOSTERONE RECEPTOR (Xq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6" descr="test-fem"/>
          <p:cNvPicPr/>
          <p:nvPr/>
        </p:nvPicPr>
        <p:blipFill>
          <a:blip r:embed="rId1"/>
          <a:stretch/>
        </p:blipFill>
        <p:spPr>
          <a:xfrm>
            <a:off x="5465880" y="1920960"/>
            <a:ext cx="2403360" cy="4433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sp>
        <p:nvSpPr>
          <p:cNvPr id="297" name="Text Box 7"/>
          <p:cNvSpPr/>
          <p:nvPr/>
        </p:nvSpPr>
        <p:spPr>
          <a:xfrm>
            <a:off x="304920" y="5335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E PSEUDOHERMAPHRODIT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ICULAR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MINISATION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 PSEUDOHERMAPHRODITIS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1295280"/>
            <a:ext cx="769644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CONGENITAL ADRENAL HYPERPLASIA (adreno-genital syndrome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romosomal constitution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6, XX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nad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va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ital duct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henotyp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differentiated sex organ, masculinized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cretion of male sex hormones from the enlarged cortex of the adrenal glan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21-OH or CYP21 gene mutation on chromosome 6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ack of 21-hydroxylase enzym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Image Preview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1371600" y="114300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 PSEUDOHERMAPHRODIT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uman somatic cells in interph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Barr_Bodies"/>
          <p:cNvPicPr/>
          <p:nvPr/>
        </p:nvPicPr>
        <p:blipFill>
          <a:blip r:embed="rId1"/>
          <a:stretch/>
        </p:blipFill>
        <p:spPr>
          <a:xfrm>
            <a:off x="0" y="2286000"/>
            <a:ext cx="9194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 OF MARY LYON HYPOTHESIS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body cells of mammals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only one X chromosome is always 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active X chromosome originate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ither from the father or from the mo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different cells of the sam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activation of the X chromosom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occurs in early embryonic develop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etween the 15th and 16th day of gestation) and all cells that originate from that cell have the same active or inactive X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econd conclusion- X inactivation mosaic 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8" descr="The Chromosomal Basis of Inheritance - ppt download"/>
          <p:cNvPicPr/>
          <p:nvPr/>
        </p:nvPicPr>
        <p:blipFill>
          <a:blip r:embed="rId1"/>
          <a:srcRect l="23337" t="0" r="23337" b="0"/>
          <a:stretch/>
        </p:blipFill>
        <p:spPr>
          <a:xfrm>
            <a:off x="5334120" y="1787400"/>
            <a:ext cx="3832200" cy="4043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The Lyon Hypothesis: Is Low-Level Ionizing Radiation Really Linked To An  Increased Risk Of Cancer? – tourisme83.com"/>
          <p:cNvPicPr/>
          <p:nvPr/>
        </p:nvPicPr>
        <p:blipFill>
          <a:blip r:embed="rId2"/>
          <a:stretch/>
        </p:blipFill>
        <p:spPr>
          <a:xfrm>
            <a:off x="0" y="1787400"/>
            <a:ext cx="53910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895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er syndro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45, XО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Barr bod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linefelter syndrome- 47, XXY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Barr bod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riple X syndrome- 47,XXX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arr bodi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rmal woman- 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r bod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049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ROMES THAT CONFIRM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l wom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6,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r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l m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 46, XY (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Barr bod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ADVANTAGES OF THE HYPOTHESIS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If the entire X chromosome is inactivated there should be no difference between a normal woman and a woman with Turner syndrom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eterozygotes for certain genes located on X chromosomes are functional mosaic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For example. enzyme glucose-6-phosphate-dehydrogenase (G6PD). Men with one X chromosome have only one variant of the enzyme, while women, due to the presence of two X chromosomes, have two forms of the same enzy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28240" y="2133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There is an active region on the inactive X chromosom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89917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y Lyon (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29:07Z</dcterms:created>
  <dc:creator>prodekan 01</dc:creator>
  <dc:description/>
  <dc:language>en-US</dc:language>
  <cp:lastModifiedBy>Microsoft Office User</cp:lastModifiedBy>
  <dcterms:modified xsi:type="dcterms:W3CDTF">2024-02-14T07:51:55Z</dcterms:modified>
  <cp:revision>274</cp:revision>
  <dc:subject/>
  <dc:title>V-   MEHANIZAM DETERMINACIJE POLA</dc:title>
</cp:coreProperties>
</file>